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96D-7220-4D04-80AC-BAE92344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E36-61E2-4EE1-B503-3EFCE518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FD6C-862A-45E7-A630-E398C0F1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59F-3B42-4310-9EBD-9B342FEE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7C66-39B3-45C9-81D4-8D94BF6D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2E6-8710-475C-B8F2-05042105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718-1740-47C7-85C3-D8664A4E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19D-4CF2-425A-9359-C7AFD7C2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E32-6250-463E-91A8-B7DB0078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3F50-A5D4-478E-91C0-4FB74749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1A9-1E06-4694-A530-E67D9506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FE6-4822-4E93-A028-E70180D4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8811-BE4A-4906-B936-AACC0A6E9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1655656cTnMqWhHx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762120"/>
            <a:ext cx="3581280" cy="76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نحن ساهرون ومصابيحنا مشتعلة، ننتظر عودتك أيها الرب يسوع (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67280" y="0"/>
            <a:ext cx="3276720" cy="7623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ما يومض البرق في أف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يتألق في آخر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ما يومض البرق  في أفق ويتألق في آخر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كذا مجيء ربنا يكون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2142490iRObjPIbaO_ph" descr=""/>
          <p:cNvPicPr/>
          <p:nvPr/>
        </p:nvPicPr>
        <p:blipFill>
          <a:blip r:embed="rId1"/>
          <a:stretch/>
        </p:blipFill>
        <p:spPr>
          <a:xfrm>
            <a:off x="-152388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1655656cTnMqWhHx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05520" y="762120"/>
            <a:ext cx="3581280" cy="76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نحن ساهرون ومصابيحنا مشتعلة، ننتظر عودتك أيها الرب يسوع (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33540849iDISSw_ph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324480" y="685800"/>
            <a:ext cx="281952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كنا آتٍ بمجدٍ عظيم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كنا آتٍ بمجدٍ عظيم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نضئ مصابيح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نخرج إلي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1655656cTnMqWhHx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05520" y="762120"/>
            <a:ext cx="3581280" cy="76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نحن ساهرون ومصابيحنا مشتعلة، ننتظر عودتك أيها الرب يسوع (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1962215RfQtwEcBQb_ph" descr=""/>
          <p:cNvPicPr/>
          <p:nvPr/>
        </p:nvPicPr>
        <p:blipFill>
          <a:blip r:embed="rId1"/>
          <a:stretch/>
        </p:blipFill>
        <p:spPr>
          <a:xfrm>
            <a:off x="2438280" y="0"/>
            <a:ext cx="9296640" cy="6816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2362320" cy="73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فرحن به كما فرح ب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فرحن به كما فرح بنا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أنه سيفرحنا ببهاء ضيائ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31655656cTnMqWhHx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05520" y="762120"/>
            <a:ext cx="3581280" cy="76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نحن ساهرون ومصابيحنا مشتعلة، ننتظر عودتك أيها الرب يسوع (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20:55:12Z</dcterms:created>
  <dc:creator>USER</dc:creator>
  <dc:description/>
  <dc:language>en-US</dc:language>
  <cp:lastModifiedBy>USER</cp:lastModifiedBy>
  <dcterms:modified xsi:type="dcterms:W3CDTF">2002-12-11T02:11:46Z</dcterms:modified>
  <cp:revision>2</cp:revision>
  <dc:subject/>
  <dc:title>PowerPoint Presentation</dc:title>
</cp:coreProperties>
</file>